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112E-5EC6-4233-A38A-5F65E876D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1F2A-DC87-43F5-97CC-93CF4639CE6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D2E3-288D-4CD2-B782-EF602870D5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8334-6097-41F7-B76D-83C901F038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3F1B-8AD9-43BF-9857-515B83870A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C44C-B04F-4A61-A9F7-0DF2E1E2751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FF57-535A-431D-A5B0-D2125EB04D2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2CA-3453-4DBB-BF4C-72E650884E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3D7-CDA1-4E49-BC51-F40549D354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EDF7-73C1-4DF5-A4AF-DD3F0941C50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56C1-B2F1-400C-B503-1A88346901B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AD45-C89D-40E1-9A1D-EBF0109F3E1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3446-648A-4262-ACC5-6C83073D4F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2010-17F3-4D8E-A933-633DFC6FD7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5743-0553-4A65-9E6D-DD8E85F87F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4C23-F83A-4B96-A8C3-D417049603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C90E-BAC9-443A-A017-29C1FB7611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CC0F-497D-4E69-B2B2-DE35876B26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EA09-6538-4767-B530-BF78E96A14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E8C4-156E-4955-8124-1DC2437C7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BDA2-9129-4EB2-A291-032E16C2512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B269-261F-4513-AFD9-E18F7DBF729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FB6-9311-4914-8609-5FF5EF5402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3990-E7F2-4666-8BFE-AF7359A8A4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FB2-CCC5-41F1-A183-4A0A461A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4B2-CBE6-4670-9A2D-F66D1BD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DE34-4684-4DA8-8409-3F03EF5D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437-FBA8-45DC-ADF2-E872DA83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A548-9543-43B8-8324-B54C5F4D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133-48EB-4CC4-9F88-A351856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1D62-4CDA-423F-ABD2-D8AC6133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D197-5C7D-48B5-A009-2E288BC6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AC47-1C25-4139-902A-CC967F34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3131-B2FF-4AC8-873D-132A7A24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0C62-AC19-4F92-8FA9-07851917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2622-39EC-4BC3-95BA-5AD2045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9AB1-EFA2-41EC-87B2-D88B4E8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B63C-6D45-464A-9CEC-5DFA90DF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40A52-763B-4D36-A9FD-EAFB84BA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6CC2-E44A-4DD2-8E42-3ED4E184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22BD-201B-4C60-BF81-E71B5FD7C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8D9-8768-4883-AE62-245466E82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011B-F09D-455F-94FA-F7350763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2D0F-FD4C-4825-A211-438900BF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853-3F2A-4DFA-A80C-E1EE05B8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A3B3-690E-42E3-AC98-87384578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2516-AB41-4198-B9F0-DC886E2F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BA3-F25B-469A-9F44-7358D416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684D-15F8-4281-9333-3C2F9B32AA5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FDB-4098-4075-BF46-90D2E339406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riedigerfarms.com/wholesale/ipm/ladybugmd.jpg&amp;imgrefurl=http://www.driedigerfarms.com/wholesale/ipm/&amp;h=253&amp;w=300&amp;sz=26&amp;tbnid=EyfZQcWjuM8J:&amp;tbnh=93&amp;tbnw=110&amp;start=36&amp;prev=/images%3Fq%3Dintegrated%2Bpest%2Bmanagement%26start%3D20%26hl%3Den%26lr%3D%26sa%3DN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Integrated 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ladybugm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152280"/>
            <a:ext cx="1047600" cy="885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photo: Blackheaded fireworm larva"/>
          <p:cNvPicPr/>
          <p:nvPr/>
        </p:nvPicPr>
        <p:blipFill>
          <a:blip r:embed="rId3"/>
          <a:stretch/>
        </p:blipFill>
        <p:spPr>
          <a:xfrm>
            <a:off x="685800" y="1523880"/>
            <a:ext cx="1600200" cy="2886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762120" y="4952880"/>
            <a:ext cx="30477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anberry and damage: black headed fireworm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sonal flooding to control 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10" descr="photo: Fireworm larvae damage"/>
          <p:cNvPicPr/>
          <p:nvPr/>
        </p:nvPicPr>
        <p:blipFill>
          <a:blip r:embed="rId4"/>
          <a:stretch/>
        </p:blipFill>
        <p:spPr>
          <a:xfrm>
            <a:off x="2590920" y="1523880"/>
            <a:ext cx="1447560" cy="292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-cuc"/>
          <p:cNvPicPr/>
          <p:nvPr/>
        </p:nvPicPr>
        <p:blipFill>
          <a:blip r:embed="rId5"/>
          <a:stretch/>
        </p:blipFill>
        <p:spPr>
          <a:xfrm>
            <a:off x="4267080" y="152388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thrips"/>
          <p:cNvPicPr/>
          <p:nvPr/>
        </p:nvPicPr>
        <p:blipFill>
          <a:blip r:embed="rId6"/>
          <a:stretch/>
        </p:blipFill>
        <p:spPr>
          <a:xfrm>
            <a:off x="6477120" y="1523880"/>
            <a:ext cx="1904760" cy="29718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6"/>
          <p:cNvSpPr/>
          <p:nvPr/>
        </p:nvSpPr>
        <p:spPr>
          <a:xfrm>
            <a:off x="4267080" y="4952880"/>
            <a:ext cx="40388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ft photo:  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predatory mite (IPM)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vouring a thrips, an agicultural pest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ght photo:  the thrips by itsel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40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Map of Africa Indicating Desertification"/>
          <p:cNvPicPr/>
          <p:nvPr/>
        </p:nvPicPr>
        <p:blipFill>
          <a:blip r:embed="rId1"/>
          <a:stretch/>
        </p:blipFill>
        <p:spPr>
          <a:xfrm>
            <a:off x="762120" y="533520"/>
            <a:ext cx="76197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0-11-15T02:55:51Z</dcterms:modified>
  <cp:revision>38</cp:revision>
  <dc:subject/>
  <dc:title>Slide 1</dc:title>
</cp:coreProperties>
</file>